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 rot="10800000">
            <a:off x="-360" y="0"/>
            <a:ext cx="6858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4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EDS: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_inner_shadow_HEDS" descr=""/>
          <p:cNvPicPr/>
          <p:nvPr/>
        </p:nvPicPr>
        <p:blipFill>
          <a:blip r:embed="rId2"/>
          <a:stretch/>
        </p:blipFill>
        <p:spPr>
          <a:xfrm>
            <a:off x="7391520" y="6305400"/>
            <a:ext cx="1581120" cy="39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An Overview of Projects and Processe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Brush Script MT"/>
              </a:rPr>
              <a:t>Higher Education Digitisation Servic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Arial"/>
              </a:rPr>
              <a:t>Joanne Lomax Smith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http://heds.herts.ac.u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2" name="Logo_inner_shadow_HEDS" descr=""/>
          <p:cNvPicPr/>
          <p:nvPr/>
        </p:nvPicPr>
        <p:blipFill>
          <a:blip r:embed="rId1"/>
          <a:stretch/>
        </p:blipFill>
        <p:spPr>
          <a:xfrm>
            <a:off x="2709720" y="2743200"/>
            <a:ext cx="3724560" cy="925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Where next?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New Opportunities Fun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£50 million government funds for digitis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HEDS - advising applicants &amp; providing specialist information for central advisory servic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rants announced summer 2001 - then production, contract management and further consultancy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Where next? - Europ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METAe - http://meta-e.uibk.ac.at/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Developing a software package to automate and improve the generation of metadat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New technologies for character, layout and document recogni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HEDS: manage the advisory group and edit the newslette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Where next? - Europ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European Task Force on Journal Digitis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rioritising journals titles for digitisation.  Being developed under Liber </a:t>
            </a:r>
            <a:br>
              <a:rPr sz="2400"/>
            </a:b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http://www.sub.uni-goettingen.de/liber-wg/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eveloped out of a conference in Copenha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Recommendations on establishment and implementation of a pan-European approach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Concluding remarks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HEDS provide a service that is not found elsewhere in the UK 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Impartial advice and consultancy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roduction services with expert bureau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Knowledge of the state of the art within the UK to share with client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An Overview of Projects and Processe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Brush Script MT"/>
              </a:rPr>
              <a:t>Higher Education Digitisation Servic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Arial"/>
              </a:rPr>
              <a:t>Joanne Lomax Smith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http://heds.herts.ac.u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2" name="Logo_inner_shadow_HEDS" descr=""/>
          <p:cNvPicPr/>
          <p:nvPr/>
        </p:nvPicPr>
        <p:blipFill>
          <a:blip r:embed="rId1"/>
          <a:stretch/>
        </p:blipFill>
        <p:spPr>
          <a:xfrm>
            <a:off x="2709720" y="2743200"/>
            <a:ext cx="3724560" cy="925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What is HEDS?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Established 1996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Centralised servic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Funded centrally by HE and F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Clients are not just education secto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The Service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Free First Respons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Email or telephon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No cost or commitmen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Production Services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High resolution, high quality scanning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Optical Character Recogni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Archive quality digital imag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Image enhancement and adjustmen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Metadata crea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Rekeying of tex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Mark up into XML, TEI or EAD forma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Bound volume scanning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Microfilm scanning in bitonal or greyscal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Photographic prints and postcards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Transparencies - 35mm, 60mm, large format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Lithographic prints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Glass plate negatives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Negatives - strips and single frame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Microfilm - 16mm and 35mm, bitonal and greyscale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Bound volumes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Paper - exam papers, grey literature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Disbound books and journal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Consultancy Services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Whole digitisation project life-cycl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Business process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roject plannin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Technical standards and workflow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Developing Funding Application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Ongoing project suppor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The HEDS Team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962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Service Director - UH’s Director of Library &amp; Information Servi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Service Manager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Two Consultan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Business Administrato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4" name="team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691080" cy="4108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Recent Projects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Arial"/>
              </a:rPr>
              <a:t>Consultancy: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he British Library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Refugee Studies Centr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New Opportunities Fund applican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Arial"/>
              </a:rPr>
              <a:t>Image: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ransparencies - artwork, manuscripts, stained glass, suffragette bann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Prints and postcards - local history collec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Arial"/>
              </a:rPr>
              <a:t>Microfilm: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Manuscrip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Political pamphle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Arial"/>
              </a:rPr>
              <a:t>Paper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Newsreel scrip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17</a:t>
            </a:r>
            <a:r>
              <a:rPr b="0" lang="en-GB" sz="20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century Trade Directori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Examination Pap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Monograph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Using HEDS - University of Oxford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Consultancy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ODL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Business plann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Refugee Studies Centre grey literature colle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Feasibility and pilo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roduc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dvice on portal developmen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Using HEDS - University of Oxford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Produc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Academic manuscrip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Examination Pape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Suppor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Funding applications - NOF, RSLP, AHRB, Andrew W Mellon Found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2:51:36Z</dcterms:created>
  <dc:creator>Joanne Lomax Smith</dc:creator>
  <dc:description/>
  <dc:language>en-US</dc:language>
  <cp:lastModifiedBy>HEDS</cp:lastModifiedBy>
  <dcterms:modified xsi:type="dcterms:W3CDTF">2000-11-17T15:19:20Z</dcterms:modified>
  <cp:revision>16</cp:revision>
  <dc:subject/>
  <dc:title>An Overview of Projects and Processes</dc:title>
</cp:coreProperties>
</file>